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9986A3-3050-42AC-8A33-87BF57755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DL – Data Definition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ML – Data Manipulation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yrażenie numeryczne musi być w nawiasach, stałe bez nawiasów (TOP 10) są akceptowane tylko z uwagi na kompatybilność wstec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SQL 2000 LOB (large object datatypes) nie mogły być użyte jako zmienne w procedurze składowanej czy funkcji, ogólnie ciężko się z nimi pracowało. A zwykły varchar miał ograniczenie do 8000 bajt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śli przewidujemy że w polu mogą się znaleźć duże wartości, to nie musimy się o to martwić – zadba o to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char(max), nvarchar(max),varbinary(max) do 2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Ładowane leniwie bo CLR trochę waży (10-15 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la użytkownika nie ma różnicy czy procedura jest w .NET czy T-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robic demo (Nemerle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zpieczeństwo w SQL Serverze jest bardzo ważne, ponieważ serwer baz danych jest krytycznym punktem w infrastrukturze IT przedsiębiorst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ONFIGURE określa że zmiana powinna zostać wprowadzona natychmiast, bez restartu serwera. WITH OVERRIDE aktualnie nic nie znac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żdy typ z SqlTypes może przyjmować wartość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emu string==nvarchar a nie varchar? Bo wszystkie stringi w .NET są w Un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TILE: liczba wierszy w grupie jest liczona wg wzoru liczba_wszystkich_wierszy/liczba_grup. Jeśli zostaje reszta z dzielenia, to k pierwszych grup dostaje dodatkowo po 1. elemenc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ste CTE są podobne do widoków, ale składnia jest mniej wygodna. Po co więc nam te C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ększa zgodność ze standardem 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kurencja jest głównym powodem dla którego CTE zostały wprowadzone. W wersji iteracyjnej CTE dają się wyrazić przez widoki, tabele tymczas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sób działania: najpierw generowany jest zbiór wynikowy dla &lt;anchor_member&gt;, później dla kroku rekursji. Procedura dla kroku rekursji jest powtarzana aż nie zostanie wygenerowany zbiór pusty. Wtedy zwracana jest suma tych zbiorów. Warunek brzegowy jest niejaw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33720" y="402588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7480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21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05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337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2721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105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A171D-2650-4268-A1DF-E852AC00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D7B37-31BF-4486-A0C5-5A367E38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4BA4E-B433-48B2-AF5B-D5A3BFEF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47BFF-D9C8-4C12-9812-E10CFF0A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CD8F6-19B0-407D-9607-84EF32DC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28440" y="1066680"/>
            <a:ext cx="66294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52A64-B3E9-4B0F-9211-E9AE1908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E49D0-4ADD-4CA0-8F82-F764CD54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7480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F45BB-1CF2-4D67-A227-2A017138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89FB1-8880-4CAB-8EF9-2C28BCA6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133720" y="402588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E8A6F-5BBC-4B09-B8ED-B7F064C1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7480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BA4A3-3F7E-4D8A-995E-DA3A64A7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21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10520" y="184464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1337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2721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10520" y="4025880"/>
            <a:ext cx="203616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7EB8A-9736-4993-AA74-CDAD28C2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828440" y="1066680"/>
            <a:ext cx="66294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74800" y="402588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74800" y="1844640"/>
            <a:ext cx="30862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720" y="4025880"/>
            <a:ext cx="6324480" cy="199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250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85840" y="62485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5120" y="205740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18288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3885840" y="62485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70866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D62C-3308-416E-8C96-A422BEBFCFD7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odeguru.pl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05740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rebuchet MS"/>
              </a:rPr>
              <a:t>SQL Server 2005</a:t>
            </a:r>
            <a:br>
              <a:rPr sz="3200"/>
            </a:br>
            <a:r>
              <a:rPr b="1" lang="pl-PL" sz="32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nowe możliwości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09680" y="3581280"/>
            <a:ext cx="6400800" cy="22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łodzimierz Bielsk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Wyzwalacze (triggery) DD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 2000: triggery dozwolone tylko dla instrukcji DML (INSERT, DELETE, UPDATE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 2005: możliwość definiowania triggerów dla instrukcji DDL (CREATE, DROP, ALTER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CREATE TRIGGER &lt;nazwa&gt; ON DATABAS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FOR &lt;lista_operacji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A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Courier New"/>
              </a:rPr>
              <a:t>&lt;instrukcje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Rozszerzenia wyrażenia TOP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 Server 2000:</a:t>
            </a:r>
            <a:r>
              <a:rPr b="1" lang="pl-P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SELECT TOP 10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 Server 2005:</a:t>
            </a:r>
            <a:r>
              <a:rPr b="1" lang="pl-P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SELECT TOP &lt;wyrażenie&gt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rażenie może być zmienną lub wynikiem pozapytani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TOP może wystąpić również w klauzulach INSERT/DELETE/UPDAT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rzykład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DELETE TOP 10 PERCENT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FROM Tabela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PIVO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Zamienia wiersze na kolumn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Bardzo przydatne w zastosowaniach analityczny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pisane w standardzie SQL:1999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perator odwrotny: UNPIVO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SELECT * FROM &lt;tabela&gt;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PIVOT (&lt;funkcja_agregujaca&gt;(&lt;kolumna&gt;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FOR &lt;atrybut&gt; IN &lt;lista&gt;) AS &lt;alias&gt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APPLY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ozwala zaaplikować funkcję tabelaryczną do każdego wiersza wynik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posób działania podobny do JOI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UTER APPLY zwraca również te wiersze dla których funkcja zwróciła NUL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SELECT &lt;lista_kolumn&gt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FROM &lt;tabela&gt;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(CROSS|OUTER) APPLY &lt;funkcja&gt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OUTPU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ozwala zwracać wiersze zmienione przez instrukcje INSERT, DELETE i UPDAT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Dostępne są wirtualne tabele INSERTED i DELETED (analogicznie jak w triggerach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maga zadeklarowania zmiennej tabelarycznej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instrukcja INSERT/DELETE/UPDATE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OUTPUT &lt;lista_kolumn&gt; INTO &lt;tabela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Long Value Data Type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220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rebuchet MS"/>
              </a:rPr>
              <a:t>SQL Server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Długość do 2 GB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ystem sam dba o sposób przechowywani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234936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220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rebuchet MS"/>
              </a:rPr>
              <a:t>SQL Server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2924280"/>
            <a:ext cx="1584360" cy="398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3716280"/>
            <a:ext cx="16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500280"/>
            <a:ext cx="1584360" cy="398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4292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4076640"/>
            <a:ext cx="1584360" cy="398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92920" y="265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2924280"/>
            <a:ext cx="2449440" cy="398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varchar(ma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256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3500280"/>
            <a:ext cx="2449440" cy="398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nvarchar(ma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6560" y="39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4076640"/>
            <a:ext cx="2449440" cy="398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ourier New"/>
              </a:rPr>
              <a:t>varbinary(ma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</a:rPr>
              <a:t>SQLCLR</a:t>
            </a: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czyli .NET w akcji…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(2/2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 Server jako host CLR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CLR – Common Language Runtim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Host – każdy proces ładujący CL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rzykładowe hosty CLR: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IIS (ASP.NET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SQL Server 2005 (SQLCLR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Hosting API – </a:t>
            </a: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mscoree.dl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 SQL Server 2005 CLR jest ładowane „leniwie” – tylko wtedy kiedy jest taka potrzeb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 Server jako host CLR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360" y="1844640"/>
            <a:ext cx="3165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CLR korzysta z SQL OS do zarządzani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pamięcią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wątkami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CLR odpowiada z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zarządzanie podzespołami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politykę bezpieczeństwa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Kod zarządzany jest uruchamiany w osobnej domeni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24000" y="1844640"/>
            <a:ext cx="2592360" cy="4176360"/>
            <a:chOff x="2124000" y="1844640"/>
            <a:chExt cx="2592360" cy="4176360"/>
          </a:xfrm>
        </p:grpSpPr>
        <p:sp>
          <p:nvSpPr>
            <p:cNvPr id="139" name=""/>
            <p:cNvSpPr/>
            <p:nvPr/>
          </p:nvSpPr>
          <p:spPr>
            <a:xfrm>
              <a:off x="2124000" y="1844640"/>
              <a:ext cx="2592360" cy="3389760"/>
            </a:xfrm>
            <a:prstGeom prst="rect">
              <a:avLst/>
            </a:prstGeom>
            <a:gradFill rotWithShape="0">
              <a:gsLst>
                <a:gs pos="0">
                  <a:srgbClr val="00172f"/>
                </a:gs>
                <a:gs pos="50000">
                  <a:srgbClr val="003366"/>
                </a:gs>
                <a:gs pos="100000">
                  <a:srgbClr val="00172f"/>
                </a:gs>
              </a:gsLst>
              <a:lin ang="13500000"/>
            </a:gra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QL Serve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00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24000" y="5236920"/>
              <a:ext cx="2584440" cy="784080"/>
            </a:xfrm>
            <a:prstGeom prst="rect">
              <a:avLst/>
            </a:prstGeom>
            <a:gradFill rotWithShape="0">
              <a:gsLst>
                <a:gs pos="0">
                  <a:srgbClr val="00003b"/>
                </a:gs>
                <a:gs pos="50000">
                  <a:srgbClr val="000080"/>
                </a:gs>
                <a:gs pos="100000">
                  <a:srgbClr val="00003b"/>
                </a:gs>
              </a:gsLst>
              <a:lin ang="13500000"/>
            </a:gra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ndow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24000" y="4720680"/>
              <a:ext cx="1461240" cy="498600"/>
            </a:xfrm>
            <a:prstGeom prst="rect">
              <a:avLst/>
            </a:prstGeom>
            <a:gradFill rotWithShape="0">
              <a:gsLst>
                <a:gs pos="0">
                  <a:srgbClr val="17462f"/>
                </a:gs>
                <a:gs pos="50000">
                  <a:srgbClr val="339966"/>
                </a:gs>
                <a:gs pos="100000">
                  <a:srgbClr val="17462f"/>
                </a:gs>
              </a:gsLst>
              <a:lin ang="13500000"/>
            </a:gra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L 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2720" y="3323160"/>
              <a:ext cx="1443960" cy="9262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100000">
                  <a:srgbClr val="ff3300"/>
                </a:gs>
              </a:gsLst>
              <a:lin ang="13500000"/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42720" y="4249800"/>
              <a:ext cx="1443960" cy="462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cc00"/>
                </a:gs>
                <a:gs pos="100000">
                  <a:srgbClr val="000000"/>
                </a:gs>
              </a:gsLst>
              <a:lin ang="135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s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Dlaczego SQLCLR?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T-SQL dobrze nadaje się do prostych operacji na danych; gorzej radzi ze skomplikowanymi obliczeniam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rocedury składowane, funkcje, typy danych mogą być definiowane w dowolnym języku .NE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Dostęp do gotowych bibliotek .NET (IO, wyrażenia regularne, obliczenia numeryczne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szystko w jednym IDE – Visual Studio 200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racle: Java Stored Procedur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Rozszerzenia języka T-SQ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Integracja z .NET CL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CLR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730440" cy="1065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434920" y="5516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QL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56000" y="1916280"/>
            <a:ext cx="1331640" cy="1185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003640" y="2276640"/>
            <a:ext cx="25196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#, VB, Nemer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16920" y="323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3284640"/>
            <a:ext cx="2519640" cy="459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dzespół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2349360"/>
            <a:ext cx="936720" cy="341280"/>
          </a:xfrm>
          <a:prstGeom prst="rightArrow">
            <a:avLst>
              <a:gd name="adj1" fmla="val 50000"/>
              <a:gd name="adj2" fmla="val 68618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2781360"/>
            <a:ext cx="341640" cy="431640"/>
          </a:xfrm>
          <a:prstGeom prst="downArrow">
            <a:avLst>
              <a:gd name="adj1" fmla="val 50000"/>
              <a:gd name="adj2" fmla="val 31586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4076640"/>
            <a:ext cx="2160360" cy="1295640"/>
          </a:xfrm>
          <a:prstGeom prst="wedgeRoundRectCallout">
            <a:avLst>
              <a:gd name="adj1" fmla="val 72481"/>
              <a:gd name="adj2" fmla="val 29657"/>
              <a:gd name="adj3" fmla="val 16667"/>
            </a:avLst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ourier New"/>
              </a:rPr>
              <a:t>create assembly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ourier New"/>
              </a:rPr>
              <a:t>create procedur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ourier New"/>
              </a:rPr>
              <a:t>create function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ourier New"/>
              </a:rPr>
              <a:t>create trigger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ourier New"/>
              </a:rPr>
              <a:t>create typ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3860640"/>
            <a:ext cx="341640" cy="503280"/>
          </a:xfrm>
          <a:prstGeom prst="downArrow">
            <a:avLst>
              <a:gd name="adj1" fmla="val 50000"/>
              <a:gd name="adj2" fmla="val 36828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Rozszerzenia DD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Załadowanie podzespołu na serwe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CREATE ASSEMBLY MyCLRDLL FROM '\\SERVERNAME\CodeLibrary\MyCLRDLL.dll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[WITH PERMISSION_SET = 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{SAFE,EXTERNAL_ACCESS,UNSAFE}]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Usunięcie podzespołu z serwer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DROP ASSEMBLY MyCLRDLL</a:t>
            </a: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bór wszystkich podzespołów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SELECT * FROM sys.assemblies</a:t>
            </a: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Rozszerzenia DD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Utworzenie procedury składowanej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CREATE PROCEDURE &lt;nazwa&gt; AS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EXTERNAL NAME &lt;ścieżka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Utworzenie funkcj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CREATE FUNCTION &lt;nazwa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RETURNS &lt;typ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EXTERNAL NAME &lt;ścieżka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Ścieżk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podzespół&gt;.&lt;klasa&gt;.&lt;funkcja&gt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CLR - bezpieczeństwo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 Server 2005 – </a:t>
            </a: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secure by defaul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CLR domyślnie wyłączon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Aby włączyć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EXEC sys.sp_configure ‘clr enabled’, 1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RECONFIGURE WITH OVERRIDE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Permission Se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SAFE – domyślny, najbardziej restrykcyjny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EXTERNAL_ACCESS – kod może odwoływać się do plików, rejestru itd.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UNSAFE – pełne prawa, może wywoływać kod niezarządzany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Procedury składowane/funkcje w C#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Każda statyczna metoda publicznej klasy może być procedurą składowaną bądź funkcją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Ale: użyte typy muszą być zgodne z tymi z SQL Serve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Dostęp do kontekstu wykonania poprzez nową klasę SqlContex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ystem.Data.SqlType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33720" y="1844640"/>
          <a:ext cx="6324480" cy="435312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l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L Serv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Int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Int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mall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St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nvarch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Date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ate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ate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Dec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ecimal, num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Dou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ql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Contex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Umożliwia dostęp do „otoczenia” w którym wykonywana jest procedura/funkcja/trigge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Pip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TriggerContex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indowsIdentit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QLCLR vs T-SQ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sparcie dla .NET CLR nie oznacza końca T-SQ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CLR jest kompilowany, T-SQL interpretowan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T-SQL jest wciąż najszybszy jeśli chodzi o dostęp do dużego zbioru dany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QLCLR jest lepszy do skomplikowanych operacji proceduralny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rebuchet MS"/>
              </a:rPr>
              <a:t>Funkcje napisane w SQLCLR są z reguły szybsze niż ich odpowiedniki w T-SQ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Kiedy nie ma wyraźnej potrzeby wykorzystania CLR używajmy T-SQL!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Inne nowości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773360"/>
            <a:ext cx="3240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.NET Framewor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ommon Language Runtime Integr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User-defined Aggregat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User-defined Data Typ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User-defined Function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QL Server .NET Data Provid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tended Trigger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 Type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anaged SQL Type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ew XML Datatyp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Varchar (MAX) Varbinary (MAX)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QL Server Engine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ew Message Service Brok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HTTP Support (Native HTTP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base Tuning Advisor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ultiple Active Result Sets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ersisted Computed Column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napshot Isolation Level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cale U</a:t>
            </a:r>
            <a:r>
              <a:rPr b="1" lang="pl-PL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 Partitioning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VIA support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UMA support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base Failure and Redundanc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ail-over Clustering (up to 8 node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hanced Multi-instance Suppor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base Mirroring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base Snapsho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XQUERY Support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XML Data Manipulation Language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R XML Enhancement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XML  Schema (XSD) Support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SXML 6.0 (Native)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.Net XML Framewor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ull-text Searc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Indexing of XML Datatyp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1773360"/>
            <a:ext cx="2663640" cy="40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OLAP and Data Min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nalysis Management Objects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indows Integrated Backup and Restor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eb Service/XML for Analysi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TS and DM Integr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ew Data Mining Algorith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uto Packaging and Deploymen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 Transformation Servic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ew Architecture (DTR + DTP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omplex Control Flow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ontrol Flow Debugging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r Each Enumeration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perty Mapping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ull Data Flow Designer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ull DTS Control Flow Design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Graphical Presentation of Pkg Execu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Immediate Mode and Project Mod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ackage (Advanced) Deployment Too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ustom Tasks and Transformation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Reporting Servic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ultiple Output Formats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arameters (Static, Dynamic, Hierarchical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Bulk Delivery of Personalized Conten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upport Multiple Data Sources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TS (Web Parts, Doc Librarie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Visual Design To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harting, Sorting, Filtering, Drill-Throug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19880" y="1700280"/>
            <a:ext cx="27241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atabase Maintenance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Backup and Restore Enhancemen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hecksum Integrity Check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edicated Administrator Connec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Dynamic AWE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ast Recovery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Highly-available Upgrade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Online Index Operation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Online Restore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arallel DBCC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arallel Index Operation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anagement Too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New Management Studi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DX Query Editor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Version Control Support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XML/A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QLCMD Command Line To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erformance Tuning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filer Enhancements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rofiling Analysis Servic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ortable Showplan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ortable Deadlock Trac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DAC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NA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Microsoft Installer base setu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upport for Active Directory Deploymen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QL Client .NET Data Provid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Server Cursor Suppor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sync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98600" indent="-49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uto-tuning Replication Agen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Oracle Public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Improved Blob Change Track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plication Monito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4160" indent="-3841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Więcej informacji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Microsoft SQL Server 2005. Nowe możliwości. Michael Otey/Hel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stęp do Microsoft SQL Server 2005 dla programistów. Peter DeBetta/MS P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ww.sqlserverdatamining.com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msdn.microsoft.com/data/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3300"/>
                </a:solidFill>
                <a:uFillTx/>
                <a:latin typeface="Trebuchet MS"/>
                <a:hlinkClick r:id="rId2"/>
              </a:rPr>
              <a:t>www.codeguru.p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rebuchet MS"/>
              </a:rPr>
              <a:t>Rozszerzenia języka T-SQ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czyli jak zrobić, żeby się nie narobić…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(1/2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Rozszerzenia Transact-SQ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Funkcje rankingow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Common Table Expression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trukturalna obsługa wyjątków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zwalacze DD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Rozszerzenia wyrażenia TOP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perator PIVO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perator APPL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Klauzula OUTPU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Funkcje rankingowe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ROW_NUMBER – zwraca unikalny numer dla każdego wiersza wynik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RANK, DENSE_RANK – zwraca numer dla każdego wiersza wynik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NTILE – równomiernie dzieli wiersze wyniku pomiędzy podaną liczbę grup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Klauzula PARTITION BY – dzieli wynik na grupy dla których wartości funkcji są liczone niezależni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funkcjaRankingu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() OVER(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[PARTITION BY &lt;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listaKolum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]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ORDER BY &lt; 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listaKolum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620640"/>
            <a:ext cx="21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Common Table Expressions (CTE)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rażenie tworzące wirtualną tabelę, do której można się odwoływać w obrębie bieżącego zapytani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 najprostszej postaci podobne do widoków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Definicja CTE może odwoływać się sama do siebi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Opisane w standardzie SQL:1999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</a:t>
            </a:r>
            <a:r>
              <a:rPr b="0" lang="pl-PL" sz="24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WITH &lt;alias&gt;(&lt;aliasy_kolumn&gt;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AS (&lt;zapytanie&gt;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zapytanie korzystające z CTE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Rekursywne CTE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ozwala na tworzenie rekursywnych zapytań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Maks. głębokość rekursji jest ograniczona (domyślnie – MAXRECURSION=100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WITH &lt;alias&gt;(&lt;aliasy_kolumn&gt;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AS (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warunek_brzegowy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UNION AL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zapytanie_rekurencyjne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zapytanie korzystające z CTE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Strukturalna obsługa wyjątków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tandardowa składnia TRY-CAT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Pozwala zachować kontekst anulowanej transakcj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Wyłapuje błędy o ważności (</a:t>
            </a:r>
            <a:r>
              <a:rPr b="0" i="1" lang="pl-PL" sz="2000" spc="-1" strike="noStrike">
                <a:solidFill>
                  <a:srgbClr val="ffffff"/>
                </a:solidFill>
                <a:latin typeface="Trebuchet MS"/>
              </a:rPr>
              <a:t>severity</a:t>
            </a: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)&gt;=10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Składnia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BEGIN TRY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polecenia SQL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END TRY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BEGIN CATCH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&lt;polecenia SQL&gt;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ourier New"/>
              </a:rPr>
              <a:t>END CATCH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1066680"/>
            <a:ext cx="6629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Funkcje informujące o szczegółach błędu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1844640"/>
            <a:ext cx="63244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ERROR_MESSAGE(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ERROR_SEVERITY(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ERROR_STATE(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ERROR_LINE(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ERROR_PROCEDURE(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Trebuchet MS"/>
              </a:rPr>
              <a:t>    </a:t>
            </a:r>
            <a:r>
              <a:rPr b="0" lang="pl-PL" sz="2000" spc="-1" strike="noStrike">
                <a:solidFill>
                  <a:srgbClr val="ff3300"/>
                </a:solidFill>
                <a:latin typeface="Trebuchet MS"/>
              </a:rPr>
              <a:t>RAISERROR(‘guru meditation’, 16, 1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7:38:23Z</dcterms:created>
  <dc:creator>Włodzimierz Bielski</dc:creator>
  <dc:description/>
  <cp:keywords/>
  <dc:language>en-US</dc:language>
  <cp:lastModifiedBy>Włodzimierz Bielski</cp:lastModifiedBy>
  <dcterms:modified xsi:type="dcterms:W3CDTF">2005-11-28T19:22:41Z</dcterms:modified>
  <cp:revision>101</cp:revision>
  <dc:subject/>
  <dc:title>SQL Server 2005 „Yukon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61033</vt:lpwstr>
  </property>
</Properties>
</file>